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6.wmf" ContentType="image/x-wmf"/>
  <Override PartName="/ppt/media/image29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7.wmf" ContentType="image/x-wmf"/>
  <Override PartName="/ppt/media/image9.png" ContentType="image/png"/>
  <Override PartName="/ppt/media/image8.wmf" ContentType="image/x-wmf"/>
  <Override PartName="/ppt/media/image13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96F9-A24E-46B9-B269-133DC5F08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08D9-DD7B-4CA9-8231-9C3479CA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468A-17E7-4D73-B8BA-02351FDD0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FA20-1737-4D3C-AC56-BBDBD38F1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CA95-4619-443C-BB53-CA0BA645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5314-9279-41FF-91D2-19286837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DF94-CE8E-4492-B2F1-F51B289B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8E75-2DC8-4D2F-9855-D3E0A352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7E76-5232-448A-9C43-5601B82C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1B4E-D258-4BCD-901A-0566EF7A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529E-9694-4BFA-AEB1-0F82D18D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646D-F0F2-46E8-815A-E54755F0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17AE-B98B-4BD2-81B8-EDD7188057F4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2800"/>
            </a:br>
            <a:br>
              <a:rPr sz="2800"/>
            </a:br>
            <a:r>
              <a:rPr b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рганска хемија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аставна јединица 13 (тринаеста недељ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981080" y="304920"/>
            <a:ext cx="485136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Електрофилна супститу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6960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Електрофилна супституција је отеж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Изводи се у јако киселој сред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исуство позитивног азота дезактивира прст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2133720" y="3581280"/>
          <a:ext cx="3504960" cy="14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581280"/>
                    <a:ext cx="3504960" cy="14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6"/>
          <p:cNvSpPr/>
          <p:nvPr/>
        </p:nvSpPr>
        <p:spPr>
          <a:xfrm>
            <a:off x="4421160" y="5029200"/>
            <a:ext cx="18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пиридинијум ј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Електрофилна супститу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5"/>
          <p:cNvGraphicFramePr/>
          <p:nvPr/>
        </p:nvGraphicFramePr>
        <p:xfrm>
          <a:off x="1434960" y="1379520"/>
          <a:ext cx="6946920" cy="50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4960" y="1379520"/>
                    <a:ext cx="694692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7"/>
          <p:cNvGraphicFramePr/>
          <p:nvPr/>
        </p:nvGraphicFramePr>
        <p:xfrm>
          <a:off x="609480" y="1752480"/>
          <a:ext cx="7696440" cy="35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52480"/>
                    <a:ext cx="7696440" cy="35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Text Box 10"/>
          <p:cNvSpPr/>
          <p:nvPr/>
        </p:nvSpPr>
        <p:spPr>
          <a:xfrm>
            <a:off x="254880" y="5638680"/>
            <a:ext cx="889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Услови за електрофилну супституцију углавном подразумевају киселу среди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уклеофилна супституција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упституција водо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838080" y="2895480"/>
          <a:ext cx="7239240" cy="35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895480"/>
                    <a:ext cx="7239240" cy="35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 Box 8"/>
          <p:cNvSpPr/>
          <p:nvPr/>
        </p:nvSpPr>
        <p:spPr>
          <a:xfrm>
            <a:off x="-5040" y="1371600"/>
            <a:ext cx="934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Резонанциона структура са негативним азотом је изузетно стабил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Таква структура није могућа ако се нуклеофилна супституција одвија у положају 3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што значи да овај положај није повољан за нуклеофилну супституци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1"/>
          <p:cNvSpPr/>
          <p:nvPr/>
        </p:nvSpPr>
        <p:spPr>
          <a:xfrm>
            <a:off x="2666880" y="2819520"/>
            <a:ext cx="1371600" cy="1600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уклеофилна супституција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упституција халог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Халогени везани за пиридинов прстен, у било ком положају реактивнији су од халогена везаног за бензен, па лако могу да се супституишу другим нуклеофи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Ипак халогени у положајима 2 и 4 реактивнији су од халогена у положају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У зависности од положаја халогена у прстену, нуклеофилна супституција се, углавном одиграва пре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АЕ (адиција-елиминација)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механизму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ЕА (елиминација-адиција)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механиз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упституција халогена из положаја 2 и 4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AE механиз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3070800" y="5869080"/>
            <a:ext cx="2762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Nu= OH</a:t>
            </a:r>
            <a:r>
              <a:rPr b="0" lang="sr-CS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, NH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CS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, CN</a:t>
            </a:r>
            <a:r>
              <a:rPr b="0" lang="sr-CS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, CH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CS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7"/>
          <p:cNvGraphicFramePr/>
          <p:nvPr/>
        </p:nvGraphicFramePr>
        <p:xfrm>
          <a:off x="457200" y="1828800"/>
          <a:ext cx="8381880" cy="37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381880" cy="37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упституција халогена из положаја 3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EA механиз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3"/>
          <p:cNvGraphicFramePr/>
          <p:nvPr/>
        </p:nvGraphicFramePr>
        <p:xfrm>
          <a:off x="609480" y="1212840"/>
          <a:ext cx="7925040" cy="42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2840"/>
                    <a:ext cx="792504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Line 6"/>
          <p:cNvSpPr/>
          <p:nvPr/>
        </p:nvSpPr>
        <p:spPr>
          <a:xfrm flipH="1" flipV="1">
            <a:off x="5714640" y="358128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6098760" y="4675320"/>
            <a:ext cx="18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дихидропирид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304920" y="5591160"/>
            <a:ext cx="711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Када је јако базна средина, нуклеофилна супституција халог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у положајима 2 и 4, такође се одиграва по овом механиз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еривати пиридина (метилпиридини, пиридинкарбонске киселин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3"/>
          <p:cNvGraphicFramePr/>
          <p:nvPr/>
        </p:nvGraphicFramePr>
        <p:xfrm>
          <a:off x="1905120" y="1676520"/>
          <a:ext cx="4800600" cy="13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676520"/>
                    <a:ext cx="480060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Rectangle 7"/>
          <p:cNvSpPr/>
          <p:nvPr/>
        </p:nvSpPr>
        <p:spPr>
          <a:xfrm>
            <a:off x="3812040" y="320040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-пико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794200" y="3200400"/>
            <a:ext cx="11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-пико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1760400" y="3200400"/>
            <a:ext cx="12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-пико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Object 10"/>
          <p:cNvGraphicFramePr/>
          <p:nvPr/>
        </p:nvGraphicFramePr>
        <p:xfrm>
          <a:off x="1981080" y="4495680"/>
          <a:ext cx="4800600" cy="135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4495680"/>
                    <a:ext cx="4800600" cy="13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Text Box 12"/>
          <p:cNvSpPr/>
          <p:nvPr/>
        </p:nvSpPr>
        <p:spPr>
          <a:xfrm>
            <a:off x="1706040" y="5869080"/>
            <a:ext cx="13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пиколин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3766320" y="5945040"/>
            <a:ext cx="136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никотин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5624280" y="5894280"/>
            <a:ext cx="16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изоникотин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1066680" y="38098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Општа метода за добијање пиридинкарбонских киселина је оксидациј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одговарајућих пиколина калијум-перманганатом у алкалној среди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Хемијске особине метилпири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3"/>
          <p:cNvGraphicFramePr/>
          <p:nvPr/>
        </p:nvGraphicFramePr>
        <p:xfrm>
          <a:off x="533520" y="1676520"/>
          <a:ext cx="761976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61976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Oval 5"/>
          <p:cNvSpPr/>
          <p:nvPr/>
        </p:nvSpPr>
        <p:spPr>
          <a:xfrm rot="19877400">
            <a:off x="3733560" y="1523520"/>
            <a:ext cx="1222200" cy="1600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6"/>
          <p:cNvSpPr/>
          <p:nvPr/>
        </p:nvSpPr>
        <p:spPr>
          <a:xfrm>
            <a:off x="5334120" y="4495680"/>
            <a:ext cx="990360" cy="1600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Хемијске особине метилпири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Због изразито киселих особина, 2- и 4-метилпиридини могу да се кондензују са алдехидима у присуству цинк-хлорида или анхидрида сирћетне кисел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11"/>
          <p:cNvGraphicFramePr/>
          <p:nvPr/>
        </p:nvGraphicFramePr>
        <p:xfrm>
          <a:off x="762120" y="2971800"/>
          <a:ext cx="7848360" cy="312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971800"/>
                    <a:ext cx="7848360" cy="31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Oval 12"/>
          <p:cNvSpPr/>
          <p:nvPr/>
        </p:nvSpPr>
        <p:spPr>
          <a:xfrm>
            <a:off x="3429000" y="5029200"/>
            <a:ext cx="380880" cy="304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3"/>
          <p:cNvSpPr/>
          <p:nvPr/>
        </p:nvSpPr>
        <p:spPr>
          <a:xfrm>
            <a:off x="3429000" y="5867280"/>
            <a:ext cx="380880" cy="304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Шесточлани хетероцикли са једним хетероато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Object 3"/>
          <p:cNvGraphicFramePr/>
          <p:nvPr/>
        </p:nvGraphicFramePr>
        <p:xfrm>
          <a:off x="1447920" y="2590920"/>
          <a:ext cx="6010200" cy="12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590920"/>
                    <a:ext cx="601020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Text Box 6"/>
          <p:cNvSpPr/>
          <p:nvPr/>
        </p:nvSpPr>
        <p:spPr>
          <a:xfrm>
            <a:off x="1281600" y="4191120"/>
            <a:ext cx="67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пиридин                пирилијум-катјон                    тинилијум-катј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иридин N-окс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3"/>
          <p:cNvGraphicFramePr/>
          <p:nvPr/>
        </p:nvGraphicFramePr>
        <p:xfrm>
          <a:off x="2514600" y="990720"/>
          <a:ext cx="4114800" cy="148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990720"/>
                    <a:ext cx="4114800" cy="14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5"/>
          <p:cNvGraphicFramePr/>
          <p:nvPr/>
        </p:nvGraphicFramePr>
        <p:xfrm>
          <a:off x="1447920" y="3352680"/>
          <a:ext cx="6172200" cy="324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3352680"/>
                    <a:ext cx="6172200" cy="32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Text Box 7"/>
          <p:cNvSpPr/>
          <p:nvPr/>
        </p:nvSpPr>
        <p:spPr>
          <a:xfrm>
            <a:off x="1059480" y="2438280"/>
            <a:ext cx="71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N-оксидна група се понаша као </a:t>
            </a:r>
            <a:r>
              <a:rPr b="1" lang="sr-CS" sz="1800" spc="-1" strike="noStrike">
                <a:solidFill>
                  <a:srgbClr val="ff0000"/>
                </a:solidFill>
                <a:latin typeface="Times New Roman"/>
              </a:rPr>
              <a:t>донор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или као </a:t>
            </a:r>
            <a:r>
              <a:rPr b="1" lang="sr-CS" sz="1800" spc="-1" strike="noStrike">
                <a:solidFill>
                  <a:srgbClr val="0066ff"/>
                </a:solidFill>
                <a:latin typeface="Times New Roman"/>
              </a:rPr>
              <a:t>акцептор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електро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тако да је могућа како електрофилна тако и нуклеофилна супституциј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2971800" y="3276720"/>
            <a:ext cx="4724280" cy="1600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2971800" y="5029200"/>
            <a:ext cx="4724280" cy="167652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Object 3"/>
          <p:cNvGraphicFramePr/>
          <p:nvPr/>
        </p:nvGraphicFramePr>
        <p:xfrm>
          <a:off x="990720" y="1066680"/>
          <a:ext cx="7391160" cy="538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066680"/>
                    <a:ext cx="7391160" cy="53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6"/>
          <p:cNvSpPr/>
          <p:nvPr/>
        </p:nvSpPr>
        <p:spPr>
          <a:xfrm>
            <a:off x="609480" y="214200"/>
            <a:ext cx="8120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Нитровање пиридин N-оксида изводи се пушљивом азотном и сумпорном киселином при чему се добија 4-нитропиридин N-оксид. Ово једињење служи за добијање других деривата пиридин N-оксида, односно пиридина, пошто се оксидни кисеоник лако уклањ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Једињења са пиридинским прст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6"/>
          <p:cNvGraphicFramePr/>
          <p:nvPr/>
        </p:nvGraphicFramePr>
        <p:xfrm>
          <a:off x="1981080" y="1447920"/>
          <a:ext cx="50086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447920"/>
                    <a:ext cx="50086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Text Box 7"/>
          <p:cNvSpPr/>
          <p:nvPr/>
        </p:nvSpPr>
        <p:spPr>
          <a:xfrm>
            <a:off x="2058480" y="32529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никотин (алкалои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5182560" y="3252960"/>
            <a:ext cx="21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анабазин (алкалои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1218960" y="601992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корамин (респираторни стимулан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5106600" y="5996160"/>
            <a:ext cx="31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изониазид (антитуберкулот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Једињења са пиридинским прст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533520" y="2133720"/>
          <a:ext cx="7729560" cy="15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7729560" cy="15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 Box 7"/>
          <p:cNvSpPr/>
          <p:nvPr/>
        </p:nvSpPr>
        <p:spPr>
          <a:xfrm>
            <a:off x="1203840" y="4091040"/>
            <a:ext cx="68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пиридоксол                         пиридоксал                       пиридокса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8"/>
          <p:cNvSpPr/>
          <p:nvPr/>
        </p:nvSpPr>
        <p:spPr>
          <a:xfrm rot="5400000">
            <a:off x="4457160" y="1257120"/>
            <a:ext cx="380880" cy="7467480"/>
          </a:xfrm>
          <a:custGeom>
            <a:avLst/>
            <a:gdLst>
              <a:gd name="textAreaLeft" fmla="*/ 0 w 380880"/>
              <a:gd name="textAreaRight" fmla="*/ 267120 w 380880"/>
              <a:gd name="textAreaTop" fmla="*/ 311040 h 7467480"/>
              <a:gd name="textAreaBottom" fmla="*/ 7156440 h 746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3587040" y="5462640"/>
            <a:ext cx="2657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витамин B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(пиридокси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Једињења са пиридинским прст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3"/>
          <p:cNvGraphicFramePr/>
          <p:nvPr/>
        </p:nvGraphicFramePr>
        <p:xfrm>
          <a:off x="5618160" y="1066680"/>
          <a:ext cx="302436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18160" y="1066680"/>
                    <a:ext cx="302436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7"/>
          <p:cNvGraphicFramePr/>
          <p:nvPr/>
        </p:nvGraphicFramePr>
        <p:xfrm>
          <a:off x="380880" y="1752480"/>
          <a:ext cx="4648320" cy="110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752480"/>
                    <a:ext cx="4648320" cy="11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Text Box 9"/>
          <p:cNvSpPr/>
          <p:nvPr/>
        </p:nvSpPr>
        <p:spPr>
          <a:xfrm>
            <a:off x="15120" y="2846520"/>
            <a:ext cx="226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никотинска 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(ниаци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2897280" y="2846520"/>
            <a:ext cx="147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никотинам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(витамин Р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76320" y="411480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Никотинамид улази у састав важних коензима као што су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*никотинамид-аденин-динуклеотид (NAD</a:t>
            </a:r>
            <a:r>
              <a:rPr b="0" lang="sr-C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)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*никотинамид-аденин-динуклеотид-фосфат (NADP</a:t>
            </a:r>
            <a:r>
              <a:rPr b="0" lang="sr-C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5943600" y="5943600"/>
            <a:ext cx="2538360" cy="76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R= H          NAD</a:t>
            </a:r>
            <a:r>
              <a:rPr b="0" lang="sr-CS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R= PO(OH)</a:t>
            </a:r>
            <a:r>
              <a:rPr b="0" lang="sr-C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        NADP</a:t>
            </a:r>
            <a:r>
              <a:rPr b="0" lang="sr-CS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64771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>
            <a:off x="7010280" y="6477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обијање пири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6"/>
          <p:cNvGraphicFramePr/>
          <p:nvPr/>
        </p:nvGraphicFramePr>
        <p:xfrm>
          <a:off x="2590920" y="2362320"/>
          <a:ext cx="3352680" cy="97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362320"/>
                    <a:ext cx="335268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5"/>
          <p:cNvSpPr/>
          <p:nvPr/>
        </p:nvSpPr>
        <p:spPr>
          <a:xfrm>
            <a:off x="2740680" y="1371600"/>
            <a:ext cx="29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ндустријско добиј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15"/>
          <p:cNvGraphicFramePr/>
          <p:nvPr/>
        </p:nvGraphicFramePr>
        <p:xfrm>
          <a:off x="2362320" y="3886200"/>
          <a:ext cx="4038480" cy="102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3886200"/>
                    <a:ext cx="403848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Text Box 16"/>
          <p:cNvSpPr/>
          <p:nvPr/>
        </p:nvSpPr>
        <p:spPr>
          <a:xfrm>
            <a:off x="1829520" y="5029200"/>
            <a:ext cx="22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тетрахидрофурфур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алкох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обијање пири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11"/>
          <p:cNvGraphicFramePr/>
          <p:nvPr/>
        </p:nvGraphicFramePr>
        <p:xfrm>
          <a:off x="380880" y="1523880"/>
          <a:ext cx="8610840" cy="12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3880"/>
                    <a:ext cx="8610840" cy="12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 Box 7"/>
          <p:cNvSpPr/>
          <p:nvPr/>
        </p:nvSpPr>
        <p:spPr>
          <a:xfrm>
            <a:off x="1295640" y="2819520"/>
            <a:ext cx="28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полуметилал-формалдех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72720" y="3657600"/>
            <a:ext cx="88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Уколико се формалдехид замени ацеталдехидом добија се 3-метилпиридин (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иколин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13"/>
          <p:cNvGraphicFramePr/>
          <p:nvPr/>
        </p:nvGraphicFramePr>
        <p:xfrm>
          <a:off x="304920" y="4800600"/>
          <a:ext cx="8686800" cy="12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800600"/>
                    <a:ext cx="868680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обијање деривата пири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3"/>
          <p:cNvGraphicFramePr/>
          <p:nvPr/>
        </p:nvGraphicFramePr>
        <p:xfrm>
          <a:off x="990720" y="2057400"/>
          <a:ext cx="7618320" cy="39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57400"/>
                    <a:ext cx="7618320" cy="39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Text Box 5"/>
          <p:cNvSpPr/>
          <p:nvPr/>
        </p:nvSpPr>
        <p:spPr>
          <a:xfrm>
            <a:off x="835200" y="129528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Hantzsch-ова мет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обијање деривата пири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3"/>
          <p:cNvGraphicFramePr/>
          <p:nvPr/>
        </p:nvGraphicFramePr>
        <p:xfrm>
          <a:off x="1295280" y="1219320"/>
          <a:ext cx="6477120" cy="12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219320"/>
                    <a:ext cx="647712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5"/>
          <p:cNvSpPr/>
          <p:nvPr/>
        </p:nvSpPr>
        <p:spPr>
          <a:xfrm>
            <a:off x="1067760" y="2590920"/>
            <a:ext cx="31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2,6-дифенилпирилијум-катј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3"/>
          <a:srcRect l="0" t="62012" r="0" b="0"/>
          <a:stretch/>
        </p:blipFill>
        <p:spPr>
          <a:xfrm>
            <a:off x="1371600" y="3886200"/>
            <a:ext cx="6696000" cy="14749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2432520" y="3124080"/>
            <a:ext cx="427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Електронска структура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75560" y="5462640"/>
            <a:ext cx="812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Азот има улогу дезактивирајуће групе и смањује електронску густину у прстен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што јако отежава електрофилну супституциј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табилност пири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Врло стабилно једињење са израженим ароматичним особин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Енергија резонанције 179,7 KJ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Стабилност пиридинског прстена је нарочито изражена према оксидационим средстви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Object 5"/>
          <p:cNvGraphicFramePr/>
          <p:nvPr/>
        </p:nvGraphicFramePr>
        <p:xfrm>
          <a:off x="1219320" y="3733920"/>
          <a:ext cx="6248160" cy="100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733920"/>
                    <a:ext cx="624816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 Box 7"/>
          <p:cNvSpPr/>
          <p:nvPr/>
        </p:nvSpPr>
        <p:spPr>
          <a:xfrm>
            <a:off x="2971800" y="38862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0" lang="sr-C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4059000" y="4903920"/>
            <a:ext cx="138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хинолин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478560" y="4876920"/>
            <a:ext cx="13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никотин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Базне особ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Пиридин је слаба база, знатно слабија од терцијерних алифатичних ам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Индуктивни и резонанциони ефекат присутних група знатно утиче на базност пирид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6"/>
          <p:cNvGraphicFramePr/>
          <p:nvPr/>
        </p:nvGraphicFramePr>
        <p:xfrm>
          <a:off x="2362320" y="2584440"/>
          <a:ext cx="3504960" cy="14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84440"/>
                    <a:ext cx="3504960" cy="14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Text Box 8"/>
          <p:cNvSpPr/>
          <p:nvPr/>
        </p:nvSpPr>
        <p:spPr>
          <a:xfrm>
            <a:off x="3279240" y="3657600"/>
            <a:ext cx="909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pK</a:t>
            </a:r>
            <a:r>
              <a:rPr b="0" lang="sr-CS" sz="1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= 8,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12"/>
          <p:cNvGraphicFramePr/>
          <p:nvPr/>
        </p:nvGraphicFramePr>
        <p:xfrm>
          <a:off x="1219320" y="3962520"/>
          <a:ext cx="6705360" cy="16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962520"/>
                    <a:ext cx="670536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13"/>
          <p:cNvSpPr/>
          <p:nvPr/>
        </p:nvSpPr>
        <p:spPr>
          <a:xfrm>
            <a:off x="1221480" y="5791320"/>
            <a:ext cx="999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pK</a:t>
            </a:r>
            <a:r>
              <a:rPr b="0" lang="sr-CS" sz="1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= 10,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2745720" y="5791320"/>
            <a:ext cx="909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pK</a:t>
            </a:r>
            <a:r>
              <a:rPr b="0" lang="sr-CS" sz="1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= 7,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4269240" y="5791320"/>
            <a:ext cx="999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pK</a:t>
            </a:r>
            <a:r>
              <a:rPr b="0" lang="sr-CS" sz="1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= 13,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6326640" y="5791320"/>
            <a:ext cx="999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pK</a:t>
            </a:r>
            <a:r>
              <a:rPr b="0" lang="sr-CS" sz="1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= 10,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едукција пири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3"/>
          <p:cNvGraphicFramePr/>
          <p:nvPr/>
        </p:nvGraphicFramePr>
        <p:xfrm>
          <a:off x="1447920" y="1506600"/>
          <a:ext cx="6019560" cy="141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06600"/>
                    <a:ext cx="6019560" cy="14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10"/>
          <p:cNvGraphicFramePr/>
          <p:nvPr/>
        </p:nvGraphicFramePr>
        <p:xfrm>
          <a:off x="1905120" y="4267080"/>
          <a:ext cx="876240" cy="15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4267080"/>
                    <a:ext cx="8762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5"/>
          <p:cNvSpPr/>
          <p:nvPr/>
        </p:nvSpPr>
        <p:spPr>
          <a:xfrm>
            <a:off x="1559160" y="3009960"/>
            <a:ext cx="586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1,2-                 3,4-               2,3-                  2,5-                1,4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дихидропирид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12"/>
          <p:cNvGraphicFramePr/>
          <p:nvPr/>
        </p:nvGraphicFramePr>
        <p:xfrm>
          <a:off x="4343400" y="4419720"/>
          <a:ext cx="3868560" cy="1093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4419720"/>
                    <a:ext cx="386856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Text Box 14"/>
          <p:cNvSpPr/>
          <p:nvPr/>
        </p:nvSpPr>
        <p:spPr>
          <a:xfrm>
            <a:off x="1067040" y="5791320"/>
            <a:ext cx="282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1,2,5,6-тетрахидропирид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945760" y="566568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пиперид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3T07:08:07Z</dcterms:created>
  <dc:creator>FullNameHere</dc:creator>
  <dc:description/>
  <dc:language>en-US</dc:language>
  <cp:lastModifiedBy>Гордана Радић</cp:lastModifiedBy>
  <dcterms:modified xsi:type="dcterms:W3CDTF">2016-09-06T07:32:45Z</dcterms:modified>
  <cp:revision>26</cp:revision>
  <dc:subject/>
  <dc:title>Slide 1</dc:title>
</cp:coreProperties>
</file>